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29"/>
          </p:nvPr>
        </p:nvSpPr>
        <p:spPr>
          <a:xfrm>
            <a:off x="381744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move the slide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0"/>
          </p:nvPr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1"/>
          </p:nvPr>
        </p:nvSpPr>
        <p:spPr>
          <a:xfrm>
            <a:off x="381744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517E-32B1-43FF-9DA2-F5ED79D8C53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278F-9937-4263-8F26-81F2E9E695A4}" type="slidenum">
              <a:rPr b="0" lang="bg-BG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F91E-454E-46AD-918D-8AFECA4DD01F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50EB-DEED-4E9E-91D1-BF5FD96AE656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AB6-C654-4631-BB07-ECAC7AD00F0E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EC32-EA49-4CF0-A6ED-E059380BF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331C-BC78-4D3C-8991-8C386ECFB5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735B4-F49F-4ADF-8E93-00A36BEA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2A430-1AEA-42B4-8CD5-084F410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E555D-0298-4E53-9DBF-F09B7DAC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203E6-1BC3-4A91-B6FE-6DE87A1A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AD751-662C-4CA9-82F1-437E6F2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EA7B8-600D-42A3-94D9-29903DA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3E52F-3D47-4997-A93F-2A5A90D5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0DC74-0662-4E71-9D9B-95381BB0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02B3D-B534-4BEB-AE62-54C35B12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9EAEB1-983F-48F9-9C40-CEF69400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05F4-523D-49E1-905A-14D4F00E6B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CBA6ED-127B-424A-B620-BD937113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188BFD-AE41-46FC-B99E-EFBDBE35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ACC615-BB0D-4FEC-AD48-F0EEFD03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FD618-205F-4825-9B20-0FAB6949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9A341A-5BFC-4998-9F7D-D7F38628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D7035F-F954-401D-AE10-7446D9B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C35FA-DC01-4CAD-8604-2CE83781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96C3A-CE34-4E83-9353-B55598B9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3D97C2-5F37-4312-B17A-B568EF5C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C2F16-A9C3-4219-97C7-9E8000D4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FE3C-1DD6-424D-8C23-97356BD3F0E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48512-D6F3-405C-9C8B-2D0B4BBE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AB86F5-BBCE-468D-8118-BBAD5658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7FA091-BC3F-4463-8B35-6C64A84C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1ACE41-A706-490E-817B-CA6FBEED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7A6E58-C2A4-4A8C-857A-14E64E0C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272AC3-9A31-4CE5-A219-474AF5B9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73B37C-D558-4489-B109-1F9A426D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516F9B-3980-4BA9-AE6E-DCCC544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BA276-9239-4DBE-938A-1DA485F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06059A-31AA-4C33-A6BA-397D91AA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49C-653B-4CBC-814D-B867217EF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520CBA-F95D-4EEF-A85B-1B9292C6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0DD965-E11D-42CE-A301-715627C6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7BCA7A-9C30-464B-8387-78BC4FB8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41F-2ACF-4762-9378-1908D6AC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19F9C-C36C-4491-897D-5362C2603E7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348F4-9C7B-4B29-9BA5-1F6E8E0804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6ECE6-418F-43AE-B2ED-08B2BB6AFAD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54C48-62FA-49FC-BA61-1FDD7FE0191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608D2-301B-4472-8C15-39ABBDAF77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BA6-569D-422B-97FE-D8FC46F5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DB49D-1956-427F-8C53-AE3405A6AF4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7C216-1BF9-4DF6-AE61-0D25BD4174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AE559-CA69-429C-B22F-0184151A95A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EE7DD-4A19-44D2-8AEF-A825179809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DB380-7A68-4670-B1FE-FFC510A2BB0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A155E-BD30-4145-9EFD-2376DCAF658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9501E-6C65-4087-B745-792FF050D38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CF8-57A5-4664-86D1-C22160AB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90A-7F4B-44F1-A409-97C0CAF1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2AA-34E4-4029-BE0C-A5A64D21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787-AA83-4140-83B7-48998939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3FC7-00D9-44E0-8091-68B140095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49F-63DF-4B45-BB4D-5F59F71A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0D9-E32A-4A32-804D-C0EE1975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0FF-5615-4655-9A2E-694146E2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BAB-958C-48B0-B765-4BE4DC0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68C-358D-462F-B9BE-281278D308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DFC2B-B2F3-4F42-BDF7-9B8D0A9B94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7D1AB-A2B2-4D9F-A525-6F8A4629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CE5E1-E884-4D28-AA95-E6062BEB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8D4E8-785E-40F3-8E99-5934229C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924AA-8290-4475-82D5-B14430DA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C217-3C4B-4E77-8CDB-519873ACDE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43B02-87F5-4E57-A2F9-8F54434F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E0CFF-881F-4B7B-94AE-FBA17F4B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A4854-806D-4FBC-A9B1-27118210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309F4-87C6-41BE-84D9-0B5FEF13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BD986-77AE-49A6-A5DD-E6A86112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04ACD-2840-45FF-BD14-D34C1A89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DE29D-448F-4583-865C-D4F7337A8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9C935-3EAA-4AE1-B94D-B1DCBA62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06332-E79F-47AB-9715-3C5D97F1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ED8FF-D0CF-4957-A54F-75D41910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5AAB-CABA-49FC-8D9C-128F3A7E05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562E4-A572-43BE-9836-10DD1AE8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EBC29-EC25-43FB-9B5E-46B5404C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460F1-04BE-4AD1-8477-81D7374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3393D-59C8-4FDA-A4DC-3BF2A6A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6C420-D331-47E7-81A3-83FFD61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1C494-5D1B-4FC0-A3AA-1F5BE850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C2D75-0161-4B14-AC11-968BF03D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14E27-DDB6-4996-9F50-7B744A3B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2C0D0-198F-4142-AFDE-861B859A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BF4C7-27D5-4C1F-B9E6-DCDF86951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DD4D-9A1B-4D49-AB3B-496DCB375D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B47B2A-0B7B-4709-9189-2EDFEC97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FA261-80FA-438E-AB4B-A3CA12F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B9023-ABDD-4EA9-BAAC-9335F864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571DE-9082-42B9-A8B4-CC5498B8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3E543-3BF1-43FB-8F79-3BE4A3CC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3BAFC-B769-4606-B453-4A8C067C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EC971-51E6-4A56-9AAF-55A96509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07B82-1F4F-4EEB-A9D9-EEC23352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726E2-C592-43A6-A5DE-BEC092DF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108E8-967E-4C78-8C0E-1B07EC2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B602-679F-4B9C-B25F-3A66798A63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B085FD-C910-4A2D-BB4E-56552CAC95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A2B9B-5477-4B6B-AD55-16696B1485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DE196-3B5C-4AF3-8E8E-335CFDD621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42F7C-46DA-43B5-B49C-2F99CBD7902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2795A-B3AB-45EF-9BC1-E553F324E8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5B6A4-2C16-4DA5-AD97-D5C09FBDF3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AB60F-E66C-4AF0-BE06-C4A10BD080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407F0-70CD-4A7C-85B1-6C3CFFB835E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03C60-31D3-40DE-978F-0979D481873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4EC65-E751-4164-AB32-10122A68F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CE30-1727-415F-ACB6-2B81DBD5009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270E0-54C2-43FE-B74C-5F162622862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89802-CEEC-48B2-BE6A-93DBFF4164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F1190-7DC2-4F4A-BA55-59CC2A3932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6756F-752B-4AE4-B059-595B5FB2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F1A40-3FE1-4812-9026-E0BCB1C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658B2-F83B-4E19-9E3D-BA566A1D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B55E3-E435-42CC-B6C3-A40BD3F0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1228C-08A6-4AB0-AA60-0B56C864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E61A0-D253-4F3B-9779-F8CD91C3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E0341-31DD-4BC1-81D3-6489B181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E1E7-6C60-40A7-8BB6-64F0EC73C95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B4986-A5B1-4E72-9C06-40647D17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9A73C-6433-43EB-94FA-2267E80F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C8862-66C2-4F5A-AE12-CF525D38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9CEB3-84EB-4504-A175-F3EFBC68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59B3C-0D83-4A31-9C6E-B7D68899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CEB00-9B59-47F2-A4C6-1FF13CFD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9BEB2-3F71-4264-886A-7FC1ADD2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8DA1E-EF1E-4946-80EA-DEF5DD62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41547-EFA0-44CA-B5D8-6067ED96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57F9A-8642-454A-9B00-4ACFB076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DE55-F8EF-44A9-9849-6B2E5C84AF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7DF96-00D5-4CDA-885D-2AA6F275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F865F-8FEF-4D8F-9BFA-1AB99A5F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A6482-AD28-40C8-B1AD-8A87690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9C6D5-193C-4AA9-BB66-E2033A77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133D8-FA0A-49B4-A44F-22828A14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C66A5-31EF-4D1B-A1B8-8282B6EF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8B96A-E948-4B22-99F6-7F246F5B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0224E-477D-4093-9807-2AA137F7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4183B-9047-4DD7-AD70-3CF707CF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22607-7653-4542-8D76-71B219A9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8AD9-725D-47C8-81A6-D112F8912CB9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FFA9-5C7D-420D-920D-060064D38205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2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D46-F6B0-48B5-A83D-E3DB0ADA058B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F8D1-7E9F-4973-BEDA-BF4F76E07BEC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5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40E-9182-445C-B774-FC147C15D5FB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27"/>
          </p:nvPr>
        </p:nvSpPr>
        <p:spPr>
          <a:xfrm>
            <a:off x="7451640" y="6552720"/>
            <a:ext cx="72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1478-02CA-44E1-A379-667BEDCE939F}" type="slidenum">
              <a:rPr b="0" lang="bg-BG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8"/>
          </p:nvPr>
        </p:nvSpPr>
        <p:spPr>
          <a:xfrm>
            <a:off x="971280" y="6559200"/>
            <a:ext cx="546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CF1E-0E5B-4B6B-9F26-3A9781B782B9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6001-B9CA-41FE-B7F6-19D03E3819FB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2502-5902-4E6E-BAFF-DF953D31B6EE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5"/>
          </p:nvPr>
        </p:nvSpPr>
        <p:spPr>
          <a:xfrm>
            <a:off x="838800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0524-3F86-4339-84BA-B8248C06C0F1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0E77-9A80-4866-B5DF-DB8B8BDA1E9E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7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344-5EB5-404A-96C2-89467E481EA7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8390-2AF6-4243-8905-7D03246443CC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8DC3-8D30-4458-B901-D0BD2DCABE47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F973-9B7F-4673-A0A7-FCB59D038AE4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55C2-91C1-4B1B-B25C-96DD86177533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3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F3DB-AD1B-44B5-AF60-E2D9A7CCE406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F124-0FBE-4320-94EE-AEECB0C606DE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6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057B-CE27-4712-89B1-7CFE83050FC9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56C6-3C5A-4CC6-87F8-532DE52F911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9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1FD-9F82-4D33-A2C9-687D72B92FD1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"/>
          <p:cNvSpPr/>
          <p:nvPr/>
        </p:nvSpPr>
        <p:spPr>
          <a:xfrm>
            <a:off x="1787400" y="1700280"/>
            <a:ext cx="7356600" cy="38671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ЮДЖ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 ДЪРЖАВНОТО ОБЩЕСТВЕНО ОСИГУРЯВА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 20</a:t>
            </a:r>
            <a:r>
              <a:rPr b="0" lang="en-US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</a:t>
            </a: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8 г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1798560" y="5950080"/>
            <a:ext cx="7318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я, Октомври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C:\Documents and Settings\Elka\My Documents\PISMA\BLANKI\CU\ДОКУМЕНТИ\Tzetno_s_NOI.jpg"/>
          <p:cNvPicPr/>
          <p:nvPr/>
        </p:nvPicPr>
        <p:blipFill>
          <a:blip r:embed="rId1"/>
          <a:stretch/>
        </p:blipFill>
        <p:spPr>
          <a:xfrm>
            <a:off x="4427640" y="339840"/>
            <a:ext cx="14414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олидиран бюджет 2018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68000" y="1352520"/>
            <a:ext cx="84963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иходи и трансфери – общо 11 067,3 млн. лв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осигурителни вноски 6 517,6 млн. лв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неданъч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млн. л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Трансфери от ЦБ –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495,1 млн. лв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ДОО – 308,8 млн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в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окриване на недостига от средства – 4 186,3 млн. л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ходи и трансфери – общо 11 067,3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лн. лв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нсии (вкл. капиталов трансфер) – 9 455,9 млн. лв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ни помощи и обезщетения – 1 4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лв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жби по социално осигуряване – 113,9 млн. лв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оставени трансфери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л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188D-F033-4F82-8B68-4BEE230ADC71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730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ходи и трансфери по КБДОО за 2018 г.</a:t>
            </a:r>
            <a:endParaRPr b="0" lang="en-US" sz="28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F4C9-21DB-452B-B09C-2AB544810E99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Chart 4" descr=""/>
          <p:cNvPicPr/>
          <p:nvPr/>
        </p:nvPicPr>
        <p:blipFill>
          <a:blip r:embed="rId1"/>
          <a:stretch/>
        </p:blipFill>
        <p:spPr>
          <a:xfrm>
            <a:off x="1944720" y="1328760"/>
            <a:ext cx="6370560" cy="4694040"/>
          </a:xfrm>
          <a:prstGeom prst="rect">
            <a:avLst/>
          </a:prstGeom>
          <a:ln w="0">
            <a:noFill/>
          </a:ln>
        </p:spPr>
      </p:pic>
      <p:pic>
        <p:nvPicPr>
          <p:cNvPr id="607" name="Chart 6" descr=""/>
          <p:cNvPicPr/>
          <p:nvPr/>
        </p:nvPicPr>
        <p:blipFill>
          <a:blip r:embed="rId2"/>
          <a:stretch/>
        </p:blipFill>
        <p:spPr>
          <a:xfrm>
            <a:off x="2133720" y="1494000"/>
            <a:ext cx="6377040" cy="4694040"/>
          </a:xfrm>
          <a:prstGeom prst="rect">
            <a:avLst/>
          </a:prstGeom>
          <a:ln w="0">
            <a:noFill/>
          </a:ln>
        </p:spPr>
      </p:pic>
      <p:pic>
        <p:nvPicPr>
          <p:cNvPr id="608" name="Chart 7" descr=""/>
          <p:cNvPicPr/>
          <p:nvPr/>
        </p:nvPicPr>
        <p:blipFill>
          <a:blip r:embed="rId3"/>
          <a:stretch/>
        </p:blipFill>
        <p:spPr>
          <a:xfrm>
            <a:off x="2127240" y="1328760"/>
            <a:ext cx="5694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9850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ходи и трансфери по КБДОО за 2018 г.</a:t>
            </a:r>
            <a:endParaRPr b="0" lang="en-US" sz="28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AD68-20E2-43CB-AB54-CEA39E1606DB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Текстов контейнер 4"/>
          <p:cNvSpPr/>
          <p:nvPr/>
        </p:nvSpPr>
        <p:spPr>
          <a:xfrm>
            <a:off x="971640" y="1197000"/>
            <a:ext cx="6985080" cy="431640"/>
          </a:xfrm>
          <a:custGeom>
            <a:avLst/>
            <a:gdLst/>
            <a:ahLst/>
            <a:rect l="l" t="t" r="r" b="b"/>
            <a:pathLst>
              <a:path w="6985000" h="431800">
                <a:moveTo>
                  <a:pt x="0" y="0"/>
                </a:moveTo>
                <a:lnTo>
                  <a:pt x="6913032" y="0"/>
                </a:lnTo>
                <a:lnTo>
                  <a:pt x="6985000" y="71968"/>
                </a:lnTo>
                <a:lnTo>
                  <a:pt x="6985000" y="431800"/>
                </a:lnTo>
                <a:lnTo>
                  <a:pt x="0" y="4318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Chart 5" descr=""/>
          <p:cNvPicPr/>
          <p:nvPr/>
        </p:nvPicPr>
        <p:blipFill>
          <a:blip r:embed="rId1"/>
          <a:stretch/>
        </p:blipFill>
        <p:spPr>
          <a:xfrm>
            <a:off x="517680" y="706320"/>
            <a:ext cx="810864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сии 2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ест за всяка година осигурителен стаж 1,169 – от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уари 2018 г.  за новоотпуснатите пенсии и от 1 юли 2018 г. за отпуснатите пенсии до 31 декември 2017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ен среден размер на пенсията на един пенсионер през 2018 г.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 лв. или 5,5% нарастване спрямо 2017 г.;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тен коефициент на заместване на дохода – 41,6%; Нетен коефициент – 53,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ен коефициент на зависимост 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и за пенс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4,4 млн. лв. или 9,0% от БВ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5CF7-FC2C-49BE-86AD-BB271C02F3DE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84080" y="3240"/>
            <a:ext cx="73198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ходи за социални помощи и обезщетения за 2018 г.</a:t>
            </a:r>
            <a:endParaRPr b="0" lang="en-US" sz="24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8B2-2EB2-4839-84B9-8A5908E50EE6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Chart 5" descr=""/>
          <p:cNvPicPr/>
          <p:nvPr/>
        </p:nvPicPr>
        <p:blipFill>
          <a:blip r:embed="rId1"/>
          <a:stretch/>
        </p:blipFill>
        <p:spPr>
          <a:xfrm>
            <a:off x="2193840" y="1341360"/>
            <a:ext cx="6701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ход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 службите по социално осигуряване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ез 2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71280" y="112500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лужбите по социално осигуряване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9 млн. лв. (1,03 на сто от общите разходи) в т.ч.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Разходи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сонал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62,7 млн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в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ръжка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5 млн. лв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ови разходи (ремонт и придобиване на дълготрайни материални и нематериални активи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рана и сигурност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лв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838836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EABD-B579-49CC-9047-36714509247F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84080" y="3240"/>
            <a:ext cx="73198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ланс на фондовете на ДОО </a:t>
            </a:r>
            <a:br>
              <a:rPr sz="2500"/>
            </a:br>
            <a:r>
              <a:rPr b="0" lang="bg-BG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201</a:t>
            </a:r>
            <a:r>
              <a:rPr b="0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0" lang="bg-BG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.</a:t>
            </a:r>
            <a:endParaRPr b="0" lang="en-US" sz="25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F386-CB28-446A-80D9-8A08381FE22B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Chart 5" descr=""/>
          <p:cNvPicPr/>
          <p:nvPr/>
        </p:nvPicPr>
        <p:blipFill>
          <a:blip r:embed="rId1"/>
          <a:stretch/>
        </p:blipFill>
        <p:spPr>
          <a:xfrm>
            <a:off x="249120" y="1127160"/>
            <a:ext cx="85708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03280" y="43920"/>
            <a:ext cx="7632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юджет на  Учителския пенсионен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нд </a:t>
            </a:r>
            <a:br>
              <a:rPr sz="2400"/>
            </a:b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 201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.</a:t>
            </a:r>
            <a:endParaRPr b="0" lang="en-US" sz="24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834920" y="6958080"/>
            <a:ext cx="77151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Chart 5" descr=""/>
          <p:cNvPicPr/>
          <p:nvPr/>
        </p:nvPicPr>
        <p:blipFill>
          <a:blip r:embed="rId1"/>
          <a:stretch/>
        </p:blipFill>
        <p:spPr>
          <a:xfrm>
            <a:off x="2243160" y="933480"/>
            <a:ext cx="5956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835280" y="43920"/>
            <a:ext cx="68515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юджет на  фонд “Гарантирани вземания на работниците и служителите” за 201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.</a:t>
            </a:r>
            <a:endParaRPr b="0" lang="en-US" sz="24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979640" y="7461360"/>
            <a:ext cx="68515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9D3-0367-45A3-81A7-388C828DD3D9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Chart 5" descr=""/>
          <p:cNvPicPr/>
          <p:nvPr/>
        </p:nvPicPr>
        <p:blipFill>
          <a:blip r:embed="rId1"/>
          <a:stretch/>
        </p:blipFill>
        <p:spPr>
          <a:xfrm>
            <a:off x="1974960" y="1274760"/>
            <a:ext cx="6711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Текстово поле 14"/>
          <p:cNvSpPr/>
          <p:nvPr/>
        </p:nvSpPr>
        <p:spPr>
          <a:xfrm>
            <a:off x="971640" y="29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4f81bd"/>
                </a:solidFill>
                <a:latin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0" y="0"/>
            <a:ext cx="180036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0"/>
          <p:cNvSpPr/>
          <p:nvPr/>
        </p:nvSpPr>
        <p:spPr>
          <a:xfrm>
            <a:off x="1800360" y="5805360"/>
            <a:ext cx="7318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16000" y="54000"/>
            <a:ext cx="8028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аквано изпълнение на бюджета на ДОО за 2017 г.  </a:t>
            </a:r>
            <a:br>
              <a:rPr sz="2400"/>
            </a:br>
            <a:r>
              <a:rPr b="0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база отчет за м. август</a:t>
            </a:r>
            <a:endParaRPr b="0" lang="en-US" sz="24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55280" y="1483920"/>
            <a:ext cx="7993440" cy="50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 – 6 0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лв. (360,0 млн. лв., 6,4% повече от плана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73d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ителни вноски – 5 918,5 млн. лв. (303,7 млн. лв., 5,4% повече от план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73d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иходи – 93,5 млн. лв. (56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лв. повече от план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и – 10 490,7 млн. лв. (122,5 млн. лв., 1,2% повече разходи от плана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73d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и – 8 975,8 млн. лв. (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лн. лв. 0,5% повече разходи от плана; 13,0 млн. лв. 0,1% по-ниски разходи от плана без изплатените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нократни допълнителни суми към пенсиите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73d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ите обезщетения – 1 431,6 млн. лв. (81,6 млн. лв., 6,0% по-високи разходи от план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 трансфери  – 4 716,6 млн. лв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4 млн. лв., 0,01% по-високи от пла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шък  в края на периода – 237,9 млн. лв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9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BEC2-E803-43CE-A659-A7DCAE0B3E3F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МЕТР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БДОО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90DB-7496-42DC-85AB-D097A869E4F6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000" y="1012320"/>
            <a:ext cx="835164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2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на КБДОО за 2018 г.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сновава на тригодишната бюджетна прогноза (2018 – 2020 г.) и е разработен съобразно Бюджетните насоки на МФ за съставяне на проектобюджетите за 2018 г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838080" y="3068640"/>
          <a:ext cx="7621560" cy="2968560"/>
        </p:xfrm>
        <a:graphic>
          <a:graphicData uri="http://schemas.openxmlformats.org/drawingml/2006/table">
            <a:tbl>
              <a:tblPr/>
              <a:tblGrid>
                <a:gridCol w="2797200"/>
                <a:gridCol w="1611360"/>
                <a:gridCol w="1674720"/>
                <a:gridCol w="1538280"/>
              </a:tblGrid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юджет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аквано 20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ект  20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огодишен брой осигурени лица, хиля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ен осигурителен доход, обявяван от НО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9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 безработни лица с право на обезщетение, хиля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огодишен брой  пенсионери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хиля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7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при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8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82" name="Slide Number Placeholder 2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E68E-5BB8-4615-883D-4AC87BF04D7B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9640" y="1389240"/>
            <a:ext cx="80647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размерът на осигурителната вноска за фон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и” с един процентен пункт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размерът на осигурителната вноска за фон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и за лицата по чл. 6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ивата от 2017 г.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т се размерите и съотношенията на осигурителните вноски за останалите фондове на ДОО и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ския пенсионен фонд на нивата от 2017 г.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ен осигурителен доход за самоосигуряващите се лица в размер на 51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ият осигурителен доход за земеделските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а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ютюнопроизводители от 300 лв. на 48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максималният осигурителен доход за всички осигурени лица в размер на 2 60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ски за фон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рани вземания на работниците и служители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з 2018 г. не се прав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7B4F-08BA-4E75-A42C-5792216DE569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31640" y="148392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т се с 2 месеца необходимата възраст и осигурителен стаж за придобиване право на пенсия по чл. 68, ал. 1 и ал. 2 от КСО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1 м./38 г. 6 м. за мъжете и 61г. 2 м./35 г. 6 м. за женит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с 2 месеца необходимата възраст за придобиване право на пенсия по чл. 68, ал. 3 от КСО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 г. 2 м. за мъжете и за женит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с 2 месеца 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ата възраст за пенсиониране за работещите в сектор „Отбрана и сигурност“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3 г. 2 м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т се с 4 месеца необходимата възраст 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нно пенсиониране на лицата от първа и втора категория, които не отговарят на условията за пенсиониране по чл. 168 от КС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4470-803E-4657-B1E9-F54D95C9A056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 януари 2018 г. тежестта за всяка година осигурителен стаж в пенсионната формула се увеличава от 1,126 на 1,169 или с процент равен на 50 на сто от индекса на потребителските цени и 50 на сто от нарастването на средния осигурителен доход през 2017 г. (3,8 на сто, определен по правилото на чл. 100 от КС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ите за трудова дейност се преизчисляват с новата тежест за всяка година осигурителен стаж от 1,169 на сто от 1 юли 2018г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минималният размер на пенсията за осигурителен стаж и възраст  с 3,8 на сто от 1 юли 2018 г.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200,00 лв. на 207,60 лв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максималният размер на получаваните една или повече пенсии на нивото от 1 юли 2015 г.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10 лв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8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3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9280" y="1125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минималният дневен размер на обезщетението за безработица от 7,20 лв. на 9 лв. и се определя максимален дневен размер – 74,29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чните обезщетения за безработица се изплащат ежемесечно през месеца, следващ този, за който се дължат, за период според продължителността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ителния стаж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време на който лицата са били осигурени за безработица, за времето след 31.12.2001 г., както след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38836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20BA-1AB8-4128-8DB1-1AB05CBAD081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403280" y="3824280"/>
          <a:ext cx="6840720" cy="2341440"/>
        </p:xfrm>
        <a:graphic>
          <a:graphicData uri="http://schemas.openxmlformats.org/drawingml/2006/table">
            <a:tbl>
              <a:tblPr/>
              <a:tblGrid>
                <a:gridCol w="3702240"/>
                <a:gridCol w="3138480"/>
              </a:tblGrid>
              <a:tr h="87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игурител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 стаж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с осигуряване за безработица за времето след 31.12.2001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год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иод на изплащане на обезщетение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месец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3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3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2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3 г. и 1 ден до 7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7 г. и 1 ден до 11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1 г. и 1 ден до 15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 1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4" name="Rectangle 5"/>
          <p:cNvSpPr/>
          <p:nvPr/>
        </p:nvSpPr>
        <p:spPr>
          <a:xfrm>
            <a:off x="1403280" y="3824280"/>
            <a:ext cx="10337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8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4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971280" y="1268280"/>
            <a:ext cx="7715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я се режимът на изплащане на паричните обезщетения за временна неработоспособност съгласно чл. 40, ал.5 на КСО - първите три работни дни се изплаща среднодневно брутно възнаграждение в размер 50 на сто от осигурителя, а от 4-тия ден на настъпване на неработоспособността се изплаща парично обезщетение от Д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периодът, от който се изчисляват краткосрочните обезщетения при временна неработоспособност - 18 календарни месеца, а при безработица и бременност и раждане - 24 месец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периодът на изплащане на паричното обезщетение за бременност и раждане - 410 д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размерът на обезщетението за отглеждане на малко дете от една до двегодишна възраст от 340 лв. на 38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размерът на еднократната помощ при смърт на осигурено лице -  54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838836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A84B-A45A-4F6F-8DC2-345B97B5D9E3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8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971280" y="1268280"/>
            <a:ext cx="7715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ят се изискванията за право на парично обезщетение за безработиц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есени и дължими осигурителни вноски във фонд „Безработица“ най-малко 12 месеца от последните 18 месец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 възможността за получаване на обезщетение за временна неработоспособност след прекратяване на правоотноше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 2018 г. продължава да действа въведената през 2017 г. възможност за майките (осиновителките), които имат право да ползват отпуска при бременност и раждане до навършване на едногодишна възраст на детето, но не го използват, а се върнат на работа, да получат обезщетение от ДОО в размер 50 на сто от полагащото им се обезщетение при бременност и раждан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 се максимален размер на гарантираните вземания – 1300 л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838836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A0F3-43B1-4819-B9D3-7F49F61D5699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3:18:44Z</dcterms:created>
  <dc:creator/>
  <dc:description/>
  <dc:language>en-US</dc:language>
  <cp:lastModifiedBy/>
  <dcterms:modified xsi:type="dcterms:W3CDTF">2017-10-13T13:40:26Z</dcterms:modified>
  <cp:revision>128</cp:revision>
  <dc:subject/>
  <dc:title>BULGARIAN PENSION SYSTEM – RECENT RE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26</vt:r8>
  </property>
  <property fmtid="{D5CDD505-2E9C-101B-9397-08002B2CF9AE}" pid="3" name="_Version">
    <vt:lpwstr>12.0.4518</vt:lpwstr>
  </property>
</Properties>
</file>