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dt" idx="2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ftr" idx="2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 type="sldNum" idx="2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244C-67F4-44DF-A593-76A14C86F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E3D5-3687-4A10-9221-F91DDE5E8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39B7-EAF3-4704-A5FA-3AC70B54F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8E17-8C44-401E-8A83-72147C3EB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3F4F-B84F-4BC4-8C83-121552D1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81FF-8F44-4E9D-916C-16222768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6F36-AE43-48AB-9050-A5CF8D3A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B2FE-8D8E-4562-B571-B9BA7374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2510-53E9-4780-BDCE-E0A819C0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47DE-652E-4E18-80C3-954353A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91EC-376A-48C9-ADD7-BC041BF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5181-240F-4CC2-AE7E-969AFE5D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9910-D8BE-420F-9B4D-4DF75778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FF96-1113-4E2E-A35A-D6443DD9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46DF-7EF4-40AC-BABA-F095E65A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18EB-2DDC-4F48-966C-25FD5D4A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A249-03CE-4BE7-BA0B-21A5ECAF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95C9-E65A-4698-A107-E3DD3614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A6A4-40D6-4CB0-A9AF-73F53380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56B5-091C-4299-8436-1822E39B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1AF3-0761-48AC-A682-D4B965EF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9B4F-D55D-4011-88C7-9E7F7051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2590-0B38-46D9-9E3D-1773C3F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F236-F36E-4223-B9F6-6F69179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7E40-5DF8-458D-AE3E-D602F7C2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9653-16DB-4953-B127-20B15620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3B5C-44C2-4986-AFFD-B92F02ED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85C8-DCB4-4ED6-B9F7-6AEE9FF5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37EBC-71D5-4F88-A36B-9602A83E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037B0-A6AE-4BFA-9914-9340AE3D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757F-FF5B-427A-B9B9-F9A182DF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CF5D-9C3F-4C2C-80E4-E4EC5A45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9D38-47C2-49F4-A666-F06F3EF4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92CBD-AC9A-469D-8F61-EF82ABCC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2D11-9E7E-4EEC-94B5-21E912B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D0EE5-C325-4BD9-A814-29A501B1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A2D21-CEF1-489C-A73B-E8EF5FDD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9650-9485-4F8D-B3AD-3D9D1696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51F05-92A8-4C80-88DA-8F541275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6A2E-D151-403C-A571-4DB48B1E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E6FA7-F4E6-4C40-BCAE-23C7498A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4B477-7C74-4273-B29E-9C7EE258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56D21-449E-4A38-8AD8-428C7026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FB257-1E37-4B98-98BE-DE0D64E5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1DEE-1BDC-4B12-BEA7-E2723443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A84F-C66A-41AD-BBCA-D606B7EF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85367-1C10-4548-9F5A-B76698A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08515-02BF-4BF8-AECB-18791AAB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4EF1-A6E0-4670-934B-AE13BE98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74117-8F66-45EF-9F7E-68E98320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7027-1D40-46A0-BC43-ED550D9B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0E5A-8B4E-4924-8511-42680573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476000" y="277560"/>
            <a:ext cx="72104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33280" y="4205520"/>
            <a:ext cx="84535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65160" y="19159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3328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65160" y="4205520"/>
            <a:ext cx="41252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0916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50080" y="19159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332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0916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50080" y="4205520"/>
            <a:ext cx="2721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3924-E795-4698-96A7-E7DEFDFA92FA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439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440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41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42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43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444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1804-941F-4D45-9C48-1004DCF199A7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8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50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18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491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492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94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495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496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97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51FF-33C1-484E-8F6B-93EA313042A3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0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02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9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543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544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5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6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7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548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49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57C4-3049-4CD9-9D14-BD3DB260F626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2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554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0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595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596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7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8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9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600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01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5B8D-C05E-42B3-B81E-F2FC3E1E3ED5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4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606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21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647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648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649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650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651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652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53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CFAE-E2F2-4079-9E0C-4A57005E60BD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6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658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22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699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700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01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02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03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704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05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771E-7143-4CC7-8E28-2818006385BA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8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10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23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751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752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53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54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755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756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57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8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9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A7E7-005A-47C5-A4D3-F046DB18AA04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0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62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ftr" idx="24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803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804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05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06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07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808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809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0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57B1-FA34-473A-B901-5EFE502D5399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2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14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ftr" idx="25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855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856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57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58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859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860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861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C12-6B08-45C0-878F-DB936C2204AF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4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865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66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26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48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49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0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1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2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53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3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8BB4-5EBE-4E09-9630-3479CAA69CF0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61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5880-42DD-4E8A-811F-7535B9E6F4EE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BDDB-A829-402E-B2A8-818F1C694D28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D575-010F-4C9A-A249-A70DA892B392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5AA9-6667-4FAC-AAA9-EAD3920435BF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81B2-662A-4645-B7BC-CC56810164DA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E9DB-93C5-451F-814D-1EE72AC34298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2"/>
          <a:srcRect l="13796" t="13991" r="20743" b="63996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5"/>
          <p:cNvSpPr/>
          <p:nvPr/>
        </p:nvSpPr>
        <p:spPr>
          <a:xfrm>
            <a:off x="34920" y="1052640"/>
            <a:ext cx="396720" cy="333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EC97-E241-42A5-B7DB-E2EB6D2FE2E2}" type="slidenum">
              <a:rPr b="1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1116000" y="1341360"/>
            <a:ext cx="1260360" cy="460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2484360" y="1341360"/>
            <a:ext cx="1871640" cy="46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4429080" y="1341360"/>
            <a:ext cx="1368360" cy="46080"/>
          </a:xfrm>
          <a:prstGeom prst="rect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5940360" y="1341360"/>
            <a:ext cx="1513080" cy="46080"/>
          </a:xfrm>
          <a:prstGeom prst="rect">
            <a:avLst/>
          </a:prstGeom>
          <a:solidFill>
            <a:srgbClr val="ff9933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7597800" y="1341360"/>
            <a:ext cx="1295280" cy="46080"/>
          </a:xfrm>
          <a:prstGeom prst="rect">
            <a:avLst/>
          </a:prstGeom>
          <a:solidFill>
            <a:srgbClr val="fabc0e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33280" y="1915920"/>
            <a:ext cx="845352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7609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755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56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F796-D74C-4EF7-B228-F28EF9801082}" type="slidenum">
              <a:rPr b="0" lang="en-US" sz="18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3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295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335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336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39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340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41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C26F-ABE1-4056-B2D2-DF5B6FA5EFD9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4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6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6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ADLWorkspace"/>
          <p:cNvGrpSpPr/>
          <p:nvPr/>
        </p:nvGrpSpPr>
        <p:grpSpPr>
          <a:xfrm>
            <a:off x="141120" y="1371240"/>
            <a:ext cx="8861760" cy="5257800"/>
            <a:chOff x="141120" y="1371240"/>
            <a:chExt cx="8861760" cy="5257800"/>
          </a:xfrm>
        </p:grpSpPr>
        <p:grpSp>
          <p:nvGrpSpPr>
            <p:cNvPr id="387" name="Group 9"/>
            <p:cNvGrpSpPr/>
            <p:nvPr/>
          </p:nvGrpSpPr>
          <p:grpSpPr>
            <a:xfrm>
              <a:off x="141120" y="1371240"/>
              <a:ext cx="8861760" cy="5257800"/>
              <a:chOff x="141120" y="1371240"/>
              <a:chExt cx="8861760" cy="5257800"/>
            </a:xfrm>
          </p:grpSpPr>
          <p:sp>
            <p:nvSpPr>
              <p:cNvPr id="388" name="Line 10"/>
              <p:cNvSpPr/>
              <p:nvPr/>
            </p:nvSpPr>
            <p:spPr>
              <a:xfrm>
                <a:off x="141120" y="160020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89" name="Line 11"/>
              <p:cNvSpPr/>
              <p:nvPr/>
            </p:nvSpPr>
            <p:spPr>
              <a:xfrm>
                <a:off x="141120" y="6248520"/>
                <a:ext cx="8861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90" name="Line 12"/>
              <p:cNvSpPr/>
              <p:nvPr/>
            </p:nvSpPr>
            <p:spPr>
              <a:xfrm flipV="1">
                <a:off x="35208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391" name="Line 13"/>
              <p:cNvSpPr/>
              <p:nvPr/>
            </p:nvSpPr>
            <p:spPr>
              <a:xfrm flipV="1">
                <a:off x="8791560" y="1371240"/>
                <a:ext cx="0" cy="5257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392" name="Line 19"/>
            <p:cNvSpPr/>
            <p:nvPr/>
          </p:nvSpPr>
          <p:spPr>
            <a:xfrm>
              <a:off x="141120" y="2133720"/>
              <a:ext cx="210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93" name="Rectangle 4"/>
          <p:cNvSpPr/>
          <p:nvPr/>
        </p:nvSpPr>
        <p:spPr>
          <a:xfrm>
            <a:off x="0" y="0"/>
            <a:ext cx="9144000" cy="566640"/>
          </a:xfrm>
          <a:prstGeom prst="rect">
            <a:avLst/>
          </a:prstGeom>
          <a:solidFill>
            <a:srgbClr val="004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0" y="542880"/>
            <a:ext cx="9144000" cy="284040"/>
          </a:xfrm>
          <a:prstGeom prst="rect">
            <a:avLst/>
          </a:prstGeom>
          <a:solidFill>
            <a:srgbClr val="6ea5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8481960" y="6524640"/>
            <a:ext cx="30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A7A9-3820-4456-A290-F0BACF19BA65}" type="slidenum">
              <a:rPr b="0" lang="en-GB" sz="10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6" name="WordArt 8"/>
          <p:cNvSpPr txBox="1"/>
          <p:nvPr/>
        </p:nvSpPr>
        <p:spPr>
          <a:xfrm>
            <a:off x="352440" y="6580080"/>
            <a:ext cx="7905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Client logo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0" y="577440"/>
            <a:ext cx="88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0" bIns="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8" name="Picture 15" descr=""/>
          <p:cNvPicPr/>
          <p:nvPr/>
        </p:nvPicPr>
        <p:blipFill>
          <a:blip r:embed="rId2"/>
          <a:stretch/>
        </p:blipFill>
        <p:spPr>
          <a:xfrm>
            <a:off x="352440" y="187200"/>
            <a:ext cx="1617480" cy="1908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4520" y="990360"/>
            <a:ext cx="844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352440" y="160020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marL="343080" indent="0">
              <a:spcBef>
                <a:spcPts val="1500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1" marL="343080" indent="-343080">
              <a:spcBef>
                <a:spcPts val="1500"/>
              </a:spcBef>
              <a:buClr>
                <a:srgbClr val="004785"/>
              </a:buClr>
              <a:buFont typeface="Wingdings" charset="2"/>
              <a:buChar char="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2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3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–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4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5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  <a:p>
            <a:pPr lvl="6" marL="343080" indent="-343080">
              <a:spcBef>
                <a:spcPts val="1500"/>
              </a:spcBef>
              <a:buClr>
                <a:srgbClr val="004785"/>
              </a:buClr>
              <a:buFont typeface="Arial"/>
              <a:buChar char="»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4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7"/>
          </p:nvPr>
        </p:nvSpPr>
        <p:spPr>
          <a:xfrm>
            <a:off x="5486040" y="649872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4785"/>
                </a:solidFill>
                <a:latin typeface="Arial"/>
              </a:rPr>
              <a:t>ADL_Report_20070209_A4_EN</a:t>
            </a:r>
            <a:endParaRPr b="0" lang="en-US" sz="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78920" y="2535120"/>
            <a:ext cx="8713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0000"/>
                </a:solidFill>
                <a:latin typeface="Verdana"/>
              </a:rPr>
              <a:t>Търговия с емисии на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bg-BG" sz="2800" spc="-1" strike="noStrike">
                <a:solidFill>
                  <a:srgbClr val="ff0000"/>
                </a:solidFill>
                <a:latin typeface="Verdana"/>
              </a:rPr>
              <a:t>парникови газове  и цени на електрическата енергия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716360" y="5300280"/>
            <a:ext cx="363384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0253f"/>
                </a:solidFill>
                <a:latin typeface="Perpetua Titling MT"/>
              </a:rPr>
              <a:t>Институт за енергиен мениджмънт</a:t>
            </a:r>
            <a:endParaRPr b="0" lang="en-US" sz="1600" spc="-1" strike="noStrike">
              <a:solidFill>
                <a:srgbClr val="376092"/>
              </a:solidFill>
              <a:latin typeface="Arial Narrow"/>
            </a:endParaRPr>
          </a:p>
        </p:txBody>
      </p:sp>
      <p:sp>
        <p:nvSpPr>
          <p:cNvPr id="915" name="Subtitle 4"/>
          <p:cNvSpPr/>
          <p:nvPr/>
        </p:nvSpPr>
        <p:spPr>
          <a:xfrm>
            <a:off x="1476360" y="476280"/>
            <a:ext cx="55436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erpetua Titling MT"/>
              </a:rPr>
              <a:t> 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</a:rPr>
              <a:t>Европейски цели за намаляване на емисиите на ПГ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6012000" y="1459080"/>
            <a:ext cx="849240" cy="596880"/>
          </a:xfrm>
          <a:prstGeom prst="rect">
            <a:avLst/>
          </a:prstGeom>
          <a:ln w="0">
            <a:noFill/>
          </a:ln>
        </p:spPr>
      </p:pic>
      <p:sp>
        <p:nvSpPr>
          <p:cNvPr id="918" name="TextBox 7"/>
          <p:cNvSpPr/>
          <p:nvPr/>
        </p:nvSpPr>
        <p:spPr>
          <a:xfrm>
            <a:off x="246240" y="1357200"/>
            <a:ext cx="82864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Европейската цел за намаляване на емисиите на ПГ</a:t>
            </a:r>
            <a:r>
              <a:rPr b="1" lang="bg-BG" sz="2400" spc="-1" strike="noStrike">
                <a:solidFill>
                  <a:srgbClr val="376092"/>
                </a:solidFill>
                <a:latin typeface="Candar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Candara"/>
              </a:rPr>
              <a:t>20%</a:t>
            </a:r>
            <a:r>
              <a:rPr b="1" lang="bg-BG" sz="2400" spc="-1" strike="noStrike">
                <a:solidFill>
                  <a:srgbClr val="376092"/>
                </a:solidFill>
                <a:latin typeface="Candara"/>
              </a:rPr>
              <a:t> </a:t>
            </a: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до 2020 г. спрямо базовата 1990 г. , което включва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Намаляване с 10% спрямо 2005 г. на емисиите от инсталации извън 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EU ETS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 (сгради, лека промишленост, транспорт, земеделие, отпадъци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Намаляване с 21% спрямо 2005 г. на емисиите от инсталации, участващи в 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EU ETS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 (всички големи индустриални и енергийни източници на емисии, авиационния сектор)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210960" y="3262320"/>
            <a:ext cx="87537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376092"/>
                </a:solidFill>
                <a:uFillTx/>
                <a:latin typeface="Verdana"/>
                <a:ea typeface="Arial"/>
              </a:rPr>
              <a:t>Зелена книга на ЕК за </a:t>
            </a:r>
            <a:r>
              <a:rPr b="1" lang="en-US" sz="1400" spc="-1" strike="noStrike" u="sng">
                <a:solidFill>
                  <a:srgbClr val="376092"/>
                </a:solidFill>
                <a:uFillTx/>
                <a:latin typeface="Verdana"/>
                <a:ea typeface="Arial"/>
              </a:rPr>
              <a:t>2030</a:t>
            </a:r>
            <a:r>
              <a:rPr b="1" lang="bg-BG" sz="1400" spc="-1" strike="noStrike">
                <a:solidFill>
                  <a:srgbClr val="376092"/>
                </a:solidFill>
                <a:latin typeface="Verdana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  <a:ea typeface="Arial"/>
              </a:rPr>
              <a:t>Климатични цели –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 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  <a:ea typeface="Arial"/>
              </a:rPr>
              <a:t>потенциал за икономически ефективно намаляване на ПГ с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 40%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30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  <a:ea typeface="Arial"/>
              </a:rPr>
              <a:t>-процентов дял на ВЕИ в общото крайно потребление на енергия до 2030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76092"/>
                </a:solidFill>
                <a:latin typeface="Candara"/>
                <a:ea typeface="Arial"/>
              </a:rPr>
              <a:t>Следващи стъпки през 2014</a:t>
            </a:r>
            <a:r>
              <a:rPr b="1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: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0" name="Right Arrow 4"/>
          <p:cNvSpPr/>
          <p:nvPr/>
        </p:nvSpPr>
        <p:spPr>
          <a:xfrm>
            <a:off x="539640" y="5415120"/>
            <a:ext cx="7201080" cy="51912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ndara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1" name="TextBox 6"/>
          <p:cNvSpPr/>
          <p:nvPr/>
        </p:nvSpPr>
        <p:spPr>
          <a:xfrm>
            <a:off x="461880" y="4714920"/>
            <a:ext cx="158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ff0000"/>
                </a:solidFill>
                <a:uFillTx/>
                <a:latin typeface="Candara"/>
                <a:ea typeface="Arial"/>
              </a:rPr>
              <a:t>22.01.2014: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Нов пакет 2030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2" name="Straight Connector 9"/>
          <p:cNvSpPr/>
          <p:nvPr/>
        </p:nvSpPr>
        <p:spPr>
          <a:xfrm>
            <a:off x="549360" y="54687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3" name="Straight Connector 11"/>
          <p:cNvSpPr/>
          <p:nvPr/>
        </p:nvSpPr>
        <p:spPr>
          <a:xfrm>
            <a:off x="1476360" y="56847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4" name="TextBox 12"/>
          <p:cNvSpPr/>
          <p:nvPr/>
        </p:nvSpPr>
        <p:spPr>
          <a:xfrm>
            <a:off x="1403280" y="58770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ff0000"/>
                </a:solidFill>
                <a:uFillTx/>
                <a:latin typeface="Candara"/>
                <a:ea typeface="Arial"/>
              </a:rPr>
              <a:t>Май 2014: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ndara"/>
                <a:ea typeface="Arial"/>
              </a:rPr>
              <a:t>Избор на нов ЕП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5" name="Straight Connector 13"/>
          <p:cNvSpPr/>
          <p:nvPr/>
        </p:nvSpPr>
        <p:spPr>
          <a:xfrm>
            <a:off x="2819520" y="543888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6" name="TextBox 14"/>
          <p:cNvSpPr/>
          <p:nvPr/>
        </p:nvSpPr>
        <p:spPr>
          <a:xfrm>
            <a:off x="2843280" y="4705200"/>
            <a:ext cx="3593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ff0000"/>
                </a:solidFill>
                <a:uFillTx/>
                <a:latin typeface="Candara"/>
                <a:ea typeface="Arial"/>
              </a:rPr>
              <a:t>Май 2014:</a:t>
            </a:r>
            <a:r>
              <a:rPr b="1" lang="bg-BG" sz="1600" spc="-1" strike="noStrike">
                <a:solidFill>
                  <a:srgbClr val="ff0000"/>
                </a:solidFill>
                <a:latin typeface="Candara"/>
                <a:ea typeface="Arial"/>
              </a:rPr>
              <a:t> </a:t>
            </a:r>
            <a:r>
              <a:rPr b="0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ДЧ представят схемите си за постигане на  енергийни спестявания от 1,5% от енергийните компани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7" name="Straight Connector 15"/>
          <p:cNvSpPr/>
          <p:nvPr/>
        </p:nvSpPr>
        <p:spPr>
          <a:xfrm>
            <a:off x="4932360" y="56847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8" name="TextBox 16"/>
          <p:cNvSpPr/>
          <p:nvPr/>
        </p:nvSpPr>
        <p:spPr>
          <a:xfrm>
            <a:off x="4824360" y="5881680"/>
            <a:ext cx="19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ff0000"/>
                </a:solidFill>
                <a:uFillTx/>
                <a:latin typeface="Candara"/>
                <a:ea typeface="Arial"/>
              </a:rPr>
              <a:t>Юни 2014: </a:t>
            </a:r>
            <a:r>
              <a:rPr b="0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Преглед на </a:t>
            </a:r>
            <a:br>
              <a:rPr sz="1400"/>
            </a:br>
            <a:r>
              <a:rPr b="0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напредъка ЕЕ 2020</a:t>
            </a:r>
            <a:r>
              <a:rPr b="0" lang="en-US" sz="1400" spc="-1" strike="noStrike">
                <a:solidFill>
                  <a:srgbClr val="ff0000"/>
                </a:solidFill>
                <a:latin typeface="Candara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tle 1"/>
          <p:cNvSpPr/>
          <p:nvPr/>
        </p:nvSpPr>
        <p:spPr>
          <a:xfrm>
            <a:off x="1403280" y="404640"/>
            <a:ext cx="77407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erpetua Titling MT"/>
              </a:rPr>
              <a:t> 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</a:rPr>
              <a:t>Схемата за търговия с емисии 2013 -2020 (трета фаза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30" name="Rectangle 4"/>
          <p:cNvGrpSpPr/>
          <p:nvPr/>
        </p:nvGrpSpPr>
        <p:grpSpPr>
          <a:xfrm>
            <a:off x="676440" y="1663560"/>
            <a:ext cx="2755800" cy="384480"/>
            <a:chOff x="676440" y="1663560"/>
            <a:chExt cx="2755800" cy="384480"/>
          </a:xfrm>
        </p:grpSpPr>
        <p:pic>
          <p:nvPicPr>
            <p:cNvPr id="931" name="Rectangle 4" descr=""/>
            <p:cNvPicPr/>
            <p:nvPr/>
          </p:nvPicPr>
          <p:blipFill>
            <a:blip r:embed="rId1"/>
            <a:stretch/>
          </p:blipFill>
          <p:spPr>
            <a:xfrm>
              <a:off x="676440" y="1663560"/>
              <a:ext cx="275580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685800" y="1674720"/>
              <a:ext cx="27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376092"/>
                  </a:solidFill>
                  <a:latin typeface="Candara"/>
                </a:rPr>
                <a:t>Цел на Европейската СТЕ: </a:t>
              </a:r>
              <a:endParaRPr b="0" lang="en-US" sz="1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33" name="TextBox 6"/>
          <p:cNvSpPr/>
          <p:nvPr/>
        </p:nvSpPr>
        <p:spPr>
          <a:xfrm>
            <a:off x="4284720" y="1668600"/>
            <a:ext cx="496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Насърчаване на намаляването на емисиите по пазарен начин </a:t>
            </a: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– развитие и разпространение на нискоемисионни и  високоефективни технологи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4" name="Right Arrow 7"/>
          <p:cNvSpPr/>
          <p:nvPr/>
        </p:nvSpPr>
        <p:spPr>
          <a:xfrm>
            <a:off x="3492360" y="1809720"/>
            <a:ext cx="648000" cy="46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35" name="Rectangle 8"/>
          <p:cNvGrpSpPr/>
          <p:nvPr/>
        </p:nvGrpSpPr>
        <p:grpSpPr>
          <a:xfrm>
            <a:off x="676440" y="2346480"/>
            <a:ext cx="2755800" cy="384120"/>
            <a:chOff x="676440" y="2346480"/>
            <a:chExt cx="2755800" cy="384120"/>
          </a:xfrm>
        </p:grpSpPr>
        <p:pic>
          <p:nvPicPr>
            <p:cNvPr id="936" name="Rectangle 8" descr=""/>
            <p:cNvPicPr/>
            <p:nvPr/>
          </p:nvPicPr>
          <p:blipFill>
            <a:blip r:embed="rId2"/>
            <a:stretch/>
          </p:blipFill>
          <p:spPr>
            <a:xfrm>
              <a:off x="676440" y="2346480"/>
              <a:ext cx="27558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85800" y="2357280"/>
              <a:ext cx="2736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376092"/>
                  </a:solidFill>
                  <a:latin typeface="Candara"/>
                </a:rPr>
                <a:t>Основен принцип: </a:t>
              </a:r>
              <a:endParaRPr b="0" lang="en-US" sz="1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38" name="Right Arrow 9"/>
          <p:cNvSpPr/>
          <p:nvPr/>
        </p:nvSpPr>
        <p:spPr>
          <a:xfrm>
            <a:off x="3511440" y="249696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9" name="TextBox 10"/>
          <p:cNvSpPr/>
          <p:nvPr/>
        </p:nvSpPr>
        <p:spPr>
          <a:xfrm>
            <a:off x="4356000" y="2349360"/>
            <a:ext cx="478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„</a:t>
            </a: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Замърсителят плаща</a:t>
            </a: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“ = закупуване на разрешителни за отделяните емиси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40" name="Rectangle 11"/>
          <p:cNvGrpSpPr/>
          <p:nvPr/>
        </p:nvGrpSpPr>
        <p:grpSpPr>
          <a:xfrm>
            <a:off x="676440" y="3170160"/>
            <a:ext cx="2792160" cy="944640"/>
            <a:chOff x="676440" y="3170160"/>
            <a:chExt cx="2792160" cy="944640"/>
          </a:xfrm>
        </p:grpSpPr>
        <p:pic>
          <p:nvPicPr>
            <p:cNvPr id="941" name="Rectangle 11" descr=""/>
            <p:cNvPicPr/>
            <p:nvPr/>
          </p:nvPicPr>
          <p:blipFill>
            <a:blip r:embed="rId3"/>
            <a:stretch/>
          </p:blipFill>
          <p:spPr>
            <a:xfrm>
              <a:off x="676440" y="3170160"/>
              <a:ext cx="27921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"/>
            <p:cNvSpPr/>
            <p:nvPr/>
          </p:nvSpPr>
          <p:spPr>
            <a:xfrm>
              <a:off x="685800" y="3179880"/>
              <a:ext cx="27702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376092"/>
                  </a:solidFill>
                  <a:latin typeface="Candara"/>
                </a:rPr>
                <a:t>Същност и особености трета фаза на СТЕ: </a:t>
              </a:r>
              <a:endParaRPr b="0" lang="en-US" sz="14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43" name="Right Arrow 12"/>
          <p:cNvSpPr/>
          <p:nvPr/>
        </p:nvSpPr>
        <p:spPr>
          <a:xfrm>
            <a:off x="3511440" y="3565440"/>
            <a:ext cx="647640" cy="4608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4" name="TextBox 13"/>
          <p:cNvSpPr/>
          <p:nvPr/>
        </p:nvSpPr>
        <p:spPr>
          <a:xfrm>
            <a:off x="4216320" y="3141720"/>
            <a:ext cx="47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Въвежда се общ ЕС-таван на емисиите</a:t>
            </a: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, които намаляват линейно през всяка година до 2020г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Силно редуцирани количества разрешителни, подлежащи на безплатно разпределян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5" name="TextBox 17"/>
          <p:cNvSpPr/>
          <p:nvPr/>
        </p:nvSpPr>
        <p:spPr>
          <a:xfrm>
            <a:off x="4214880" y="4048200"/>
            <a:ext cx="4978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0000"/>
                </a:solidFill>
                <a:latin typeface="Candara"/>
              </a:rPr>
              <a:t>Електропроизводителите – 100% заплащане за СО2 разрешителнит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Право на дерогация от горното правило  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Разрешителните се продават на търгове, приходите от които са насочени към държавните бюджет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Поне 50% от тези приходи – проекти за нисковъглеродно развитие (ВЕИ, енергийна ефективност, </a:t>
            </a:r>
            <a:r>
              <a:rPr b="0" lang="en-US" sz="1400" spc="-1" strike="noStrike">
                <a:solidFill>
                  <a:srgbClr val="376092"/>
                </a:solidFill>
                <a:latin typeface="Candara"/>
              </a:rPr>
              <a:t>CCS</a:t>
            </a:r>
            <a:r>
              <a:rPr b="0" lang="bg-BG" sz="1400" spc="-1" strike="noStrike">
                <a:solidFill>
                  <a:srgbClr val="376092"/>
                </a:solidFill>
                <a:latin typeface="Candara"/>
              </a:rPr>
              <a:t>) и борба с енергийната бедност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084720" y="2579760"/>
            <a:ext cx="344520" cy="349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3" descr=""/>
          <p:cNvPicPr/>
          <p:nvPr/>
        </p:nvPicPr>
        <p:blipFill>
          <a:blip r:embed="rId5"/>
          <a:stretch/>
        </p:blipFill>
        <p:spPr>
          <a:xfrm rot="20791800">
            <a:off x="6470280" y="2629080"/>
            <a:ext cx="6476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79240" y="31248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66"/>
                </a:solidFill>
                <a:latin typeface="Candara"/>
              </a:rPr>
              <a:t>Емисии на парникови газове от сектор Енергетика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949" name="Chart 7" descr=""/>
          <p:cNvPicPr/>
          <p:nvPr/>
        </p:nvPicPr>
        <p:blipFill>
          <a:blip r:embed="rId1"/>
          <a:stretch/>
        </p:blipFill>
        <p:spPr>
          <a:xfrm>
            <a:off x="-23760" y="1407960"/>
            <a:ext cx="4881600" cy="2882880"/>
          </a:xfrm>
          <a:prstGeom prst="rect">
            <a:avLst/>
          </a:prstGeom>
          <a:ln w="0">
            <a:noFill/>
          </a:ln>
        </p:spPr>
      </p:pic>
      <p:sp>
        <p:nvSpPr>
          <p:cNvPr id="950" name="TextBox 3"/>
          <p:cNvSpPr/>
          <p:nvPr/>
        </p:nvSpPr>
        <p:spPr>
          <a:xfrm>
            <a:off x="5508720" y="2133720"/>
            <a:ext cx="287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76092"/>
                </a:solidFill>
                <a:latin typeface="Candara"/>
              </a:rPr>
              <a:t>68% от</a:t>
            </a:r>
            <a:r>
              <a:rPr b="1" lang="en-US" sz="1600" spc="-1" strike="noStrike">
                <a:solidFill>
                  <a:srgbClr val="376092"/>
                </a:solidFill>
                <a:latin typeface="Candara"/>
              </a:rPr>
              <a:t> </a:t>
            </a:r>
            <a:r>
              <a:rPr b="1" lang="bg-BG" sz="1600" spc="-1" strike="noStrike">
                <a:solidFill>
                  <a:srgbClr val="376092"/>
                </a:solidFill>
                <a:latin typeface="Candara"/>
              </a:rPr>
              <a:t>общите  емисии на </a:t>
            </a:r>
            <a:r>
              <a:rPr b="1" lang="en-US" sz="1600" spc="-1" strike="noStrike">
                <a:solidFill>
                  <a:srgbClr val="376092"/>
                </a:solidFill>
                <a:latin typeface="Candara"/>
              </a:rPr>
              <a:t>CO2</a:t>
            </a:r>
            <a:r>
              <a:rPr b="1" lang="bg-BG" sz="1600" spc="-1" strike="noStrike">
                <a:solidFill>
                  <a:srgbClr val="376092"/>
                </a:solidFill>
                <a:latin typeface="Candara"/>
              </a:rPr>
              <a:t> в страната се дължат на ТЕЦ, топлофикационни и заводски централи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51" name="Chart 8" descr=""/>
          <p:cNvPicPr/>
          <p:nvPr/>
        </p:nvPicPr>
        <p:blipFill>
          <a:blip r:embed="rId2"/>
          <a:stretch/>
        </p:blipFill>
        <p:spPr>
          <a:xfrm>
            <a:off x="57240" y="4403880"/>
            <a:ext cx="5789520" cy="2477880"/>
          </a:xfrm>
          <a:prstGeom prst="rect">
            <a:avLst/>
          </a:prstGeom>
          <a:ln w="0">
            <a:noFill/>
          </a:ln>
        </p:spPr>
      </p:pic>
      <p:sp>
        <p:nvSpPr>
          <p:cNvPr id="952" name="TextBox 4"/>
          <p:cNvSpPr/>
          <p:nvPr/>
        </p:nvSpPr>
        <p:spPr>
          <a:xfrm>
            <a:off x="539640" y="4344840"/>
            <a:ext cx="46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Въглеродна интензивност на електропроизводството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itle 1"/>
          <p:cNvSpPr/>
          <p:nvPr/>
        </p:nvSpPr>
        <p:spPr>
          <a:xfrm>
            <a:off x="1403280" y="484200"/>
            <a:ext cx="7740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Perpetua Titling MT"/>
              </a:rPr>
              <a:t> 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</a:rPr>
              <a:t>Приходи от търговия с емисии през 2013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54" name="TextBox 7"/>
          <p:cNvGrpSpPr/>
          <p:nvPr/>
        </p:nvGrpSpPr>
        <p:grpSpPr>
          <a:xfrm>
            <a:off x="274680" y="3571920"/>
            <a:ext cx="4492440" cy="593280"/>
            <a:chOff x="274680" y="3571920"/>
            <a:chExt cx="4492440" cy="593280"/>
          </a:xfrm>
        </p:grpSpPr>
        <p:pic>
          <p:nvPicPr>
            <p:cNvPr id="955" name="TextBox 7" descr=""/>
            <p:cNvPicPr/>
            <p:nvPr/>
          </p:nvPicPr>
          <p:blipFill>
            <a:blip r:embed="rId1"/>
            <a:stretch/>
          </p:blipFill>
          <p:spPr>
            <a:xfrm>
              <a:off x="274680" y="3571920"/>
              <a:ext cx="44924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289080" y="3584520"/>
              <a:ext cx="446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376092"/>
                  </a:solidFill>
                  <a:latin typeface="Candara"/>
                </a:rPr>
                <a:t>Фактически приходи от продажбата на </a:t>
              </a:r>
              <a:r>
                <a:rPr b="1" lang="en-US" sz="1600" spc="-1" strike="noStrike">
                  <a:solidFill>
                    <a:srgbClr val="376092"/>
                  </a:solidFill>
                  <a:latin typeface="Candara"/>
                </a:rPr>
                <a:t>CO2</a:t>
              </a:r>
              <a:endParaRPr b="0" lang="en-US" sz="1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957" name="TextBox 9"/>
          <p:cNvSpPr/>
          <p:nvPr/>
        </p:nvSpPr>
        <p:spPr>
          <a:xfrm>
            <a:off x="291960" y="2747880"/>
            <a:ext cx="748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Използват се като 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II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-ри финансов източник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 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за насърчаване на ВЕИ:</a:t>
            </a:r>
            <a:br>
              <a:rPr sz="1600"/>
            </a:b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ДКЕВР предвижда приходи от </a:t>
            </a:r>
            <a:r>
              <a:rPr b="1" lang="bg-BG" sz="1600" spc="-1" strike="noStrike">
                <a:solidFill>
                  <a:srgbClr val="376092"/>
                </a:solidFill>
                <a:latin typeface="Candara"/>
              </a:rPr>
              <a:t>499 млн. лева 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за компенсиране на част от разходите за производство  на зелена енергия от ВЕ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58" name="Chart 11" descr=""/>
          <p:cNvPicPr/>
          <p:nvPr/>
        </p:nvPicPr>
        <p:blipFill>
          <a:blip r:embed="rId2"/>
          <a:stretch/>
        </p:blipFill>
        <p:spPr>
          <a:xfrm>
            <a:off x="0" y="3919680"/>
            <a:ext cx="9120240" cy="2925720"/>
          </a:xfrm>
          <a:prstGeom prst="rect">
            <a:avLst/>
          </a:prstGeom>
          <a:ln w="0">
            <a:noFill/>
          </a:ln>
        </p:spPr>
      </p:pic>
      <p:sp>
        <p:nvSpPr>
          <p:cNvPr id="959" name="TextBox 1"/>
          <p:cNvSpPr/>
          <p:nvPr/>
        </p:nvSpPr>
        <p:spPr>
          <a:xfrm>
            <a:off x="6877080" y="5994360"/>
            <a:ext cx="2338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Общо приходи: 74 766 410 </a:t>
            </a:r>
            <a:r>
              <a:rPr b="1" lang="en-US" sz="1400" spc="-1" strike="noStrike">
                <a:solidFill>
                  <a:srgbClr val="ff0000"/>
                </a:solidFill>
                <a:latin typeface="Candara"/>
                <a:ea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Candara"/>
                <a:ea typeface="Arial"/>
              </a:rPr>
              <a:t>към 31/12/2013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324000" y="17002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760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ДКЕВР признава разходите за закупуване на емисии от централите, но не ги включва в ценит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961" name="TextBox 14"/>
          <p:cNvGrpSpPr/>
          <p:nvPr/>
        </p:nvGrpSpPr>
        <p:grpSpPr>
          <a:xfrm>
            <a:off x="281160" y="1407960"/>
            <a:ext cx="4303440" cy="360360"/>
            <a:chOff x="281160" y="1407960"/>
            <a:chExt cx="4303440" cy="360360"/>
          </a:xfrm>
        </p:grpSpPr>
        <p:pic>
          <p:nvPicPr>
            <p:cNvPr id="962" name="TextBox 14" descr=""/>
            <p:cNvPicPr/>
            <p:nvPr/>
          </p:nvPicPr>
          <p:blipFill>
            <a:blip r:embed="rId3"/>
            <a:stretch/>
          </p:blipFill>
          <p:spPr>
            <a:xfrm>
              <a:off x="281160" y="1407960"/>
              <a:ext cx="43034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293760" y="1417680"/>
              <a:ext cx="42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376092"/>
                  </a:solidFill>
                  <a:latin typeface="Candara"/>
                </a:rPr>
                <a:t>Разходи за </a:t>
              </a:r>
              <a:r>
                <a:rPr b="1" lang="en-US" sz="1600" spc="-1" strike="noStrike">
                  <a:solidFill>
                    <a:srgbClr val="376092"/>
                  </a:solidFill>
                  <a:latin typeface="Candara"/>
                </a:rPr>
                <a:t>CO2</a:t>
              </a:r>
              <a:endParaRPr b="0" lang="en-US" sz="1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964" name="TextBox 15"/>
          <p:cNvGrpSpPr/>
          <p:nvPr/>
        </p:nvGrpSpPr>
        <p:grpSpPr>
          <a:xfrm>
            <a:off x="281160" y="2279520"/>
            <a:ext cx="4376520" cy="360360"/>
            <a:chOff x="281160" y="2279520"/>
            <a:chExt cx="4376520" cy="360360"/>
          </a:xfrm>
        </p:grpSpPr>
        <p:pic>
          <p:nvPicPr>
            <p:cNvPr id="965" name="TextBox 15" descr=""/>
            <p:cNvPicPr/>
            <p:nvPr/>
          </p:nvPicPr>
          <p:blipFill>
            <a:blip r:embed="rId4"/>
            <a:stretch/>
          </p:blipFill>
          <p:spPr>
            <a:xfrm>
              <a:off x="281160" y="2279520"/>
              <a:ext cx="43765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"/>
            <p:cNvSpPr/>
            <p:nvPr/>
          </p:nvSpPr>
          <p:spPr>
            <a:xfrm>
              <a:off x="291960" y="2290680"/>
              <a:ext cx="435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376092"/>
                  </a:solidFill>
                  <a:latin typeface="Candara"/>
                </a:rPr>
                <a:t>Приходи от </a:t>
              </a:r>
              <a:r>
                <a:rPr b="1" lang="en-US" sz="1600" spc="-1" strike="noStrike">
                  <a:solidFill>
                    <a:srgbClr val="376092"/>
                  </a:solidFill>
                  <a:latin typeface="Candara"/>
                </a:rPr>
                <a:t>CO2</a:t>
              </a:r>
              <a:endParaRPr b="0" lang="en-US" sz="16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"/>
          <p:cNvPicPr/>
          <p:nvPr/>
        </p:nvPicPr>
        <p:blipFill>
          <a:blip r:embed="rId1"/>
          <a:stretch/>
        </p:blipFill>
        <p:spPr>
          <a:xfrm>
            <a:off x="282600" y="1454040"/>
            <a:ext cx="6065640" cy="2495520"/>
          </a:xfrm>
          <a:prstGeom prst="rect">
            <a:avLst/>
          </a:prstGeom>
          <a:ln w="0">
            <a:noFill/>
          </a:ln>
        </p:spPr>
      </p:pic>
      <p:sp>
        <p:nvSpPr>
          <p:cNvPr id="968" name="TextBox 2"/>
          <p:cNvSpPr/>
          <p:nvPr/>
        </p:nvSpPr>
        <p:spPr>
          <a:xfrm>
            <a:off x="1042920" y="1557360"/>
            <a:ext cx="403236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Прогноза за цени на </a:t>
            </a:r>
            <a:r>
              <a:rPr b="1" lang="en-US" sz="1400" spc="-1" strike="noStrike">
                <a:solidFill>
                  <a:srgbClr val="376092"/>
                </a:solidFill>
                <a:latin typeface="Candara"/>
              </a:rPr>
              <a:t>CO2 </a:t>
            </a: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разрешителн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1547640" y="412920"/>
            <a:ext cx="7131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Цени на разрешителни за </a:t>
            </a:r>
            <a:r>
              <a:rPr b="1" lang="en-US" sz="2400" spc="-1" strike="noStrike">
                <a:solidFill>
                  <a:srgbClr val="003366"/>
                </a:solidFill>
                <a:latin typeface="Candara"/>
                <a:ea typeface="Arial"/>
              </a:rPr>
              <a:t>CO2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 емисии и влиянието им върху електроенергийния микс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70" name="Picture 3" descr=""/>
          <p:cNvPicPr/>
          <p:nvPr/>
        </p:nvPicPr>
        <p:blipFill>
          <a:blip r:embed="rId2"/>
          <a:stretch/>
        </p:blipFill>
        <p:spPr>
          <a:xfrm>
            <a:off x="7008840" y="1508040"/>
            <a:ext cx="1971720" cy="24256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2" descr=""/>
          <p:cNvPicPr/>
          <p:nvPr/>
        </p:nvPicPr>
        <p:blipFill>
          <a:blip r:embed="rId3"/>
          <a:stretch/>
        </p:blipFill>
        <p:spPr>
          <a:xfrm>
            <a:off x="284040" y="4343400"/>
            <a:ext cx="3889440" cy="2514600"/>
          </a:xfrm>
          <a:prstGeom prst="rect">
            <a:avLst/>
          </a:prstGeom>
          <a:ln w="0">
            <a:noFill/>
          </a:ln>
        </p:spPr>
      </p:pic>
      <p:sp>
        <p:nvSpPr>
          <p:cNvPr id="972" name="TextBox 11"/>
          <p:cNvSpPr/>
          <p:nvPr/>
        </p:nvSpPr>
        <p:spPr>
          <a:xfrm>
            <a:off x="4135320" y="5259240"/>
            <a:ext cx="48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ТЕЦ на твърди горива:</a:t>
            </a:r>
            <a:br>
              <a:rPr sz="1800"/>
            </a:b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само 3% от нетното електропроизводств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3" name="TextBox 12"/>
          <p:cNvSpPr/>
          <p:nvPr/>
        </p:nvSpPr>
        <p:spPr>
          <a:xfrm>
            <a:off x="4108320" y="4343400"/>
            <a:ext cx="48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Вятърната енергия:</a:t>
            </a:r>
            <a:br>
              <a:rPr sz="1800"/>
            </a:b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лидер в електропроизводствот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4" name="TextBox 13"/>
          <p:cNvSpPr/>
          <p:nvPr/>
        </p:nvSpPr>
        <p:spPr>
          <a:xfrm>
            <a:off x="282600" y="3841920"/>
            <a:ext cx="3852720" cy="52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ЕС: Нетно електропроизводство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по видове централ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5" name="TextBox 14"/>
          <p:cNvSpPr/>
          <p:nvPr/>
        </p:nvSpPr>
        <p:spPr>
          <a:xfrm>
            <a:off x="7742160" y="658188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376092"/>
                </a:solidFill>
                <a:latin typeface="Candara"/>
              </a:rPr>
              <a:t>Източник:ЕК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3"/>
          <p:cNvSpPr/>
          <p:nvPr/>
        </p:nvSpPr>
        <p:spPr>
          <a:xfrm>
            <a:off x="1547640" y="412920"/>
            <a:ext cx="7131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Прогнози </a:t>
            </a:r>
            <a:r>
              <a:rPr b="1" lang="en-US" sz="2400" spc="-1" strike="noStrike">
                <a:solidFill>
                  <a:srgbClr val="003366"/>
                </a:solidFill>
                <a:latin typeface="Candara"/>
                <a:ea typeface="Arial"/>
              </a:rPr>
              <a:t> 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за </a:t>
            </a:r>
            <a:r>
              <a:rPr b="1" lang="en-US" sz="2400" spc="-1" strike="noStrike">
                <a:solidFill>
                  <a:srgbClr val="003366"/>
                </a:solidFill>
                <a:latin typeface="Candara"/>
                <a:ea typeface="Arial"/>
              </a:rPr>
              <a:t>CO2</a:t>
            </a: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 емисии по сектори в ЕС до 2050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7" name="TextBox 2"/>
          <p:cNvSpPr/>
          <p:nvPr/>
        </p:nvSpPr>
        <p:spPr>
          <a:xfrm>
            <a:off x="4464360" y="220680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76092"/>
                </a:solidFill>
                <a:latin typeface="Candar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6251760" cy="4005360"/>
          </a:xfrm>
          <a:prstGeom prst="rect">
            <a:avLst/>
          </a:prstGeom>
          <a:ln w="0">
            <a:noFill/>
          </a:ln>
        </p:spPr>
      </p:pic>
      <p:sp>
        <p:nvSpPr>
          <p:cNvPr id="979" name="TextBox 5"/>
          <p:cNvSpPr/>
          <p:nvPr/>
        </p:nvSpPr>
        <p:spPr>
          <a:xfrm>
            <a:off x="4917960" y="5877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76092"/>
                </a:solidFill>
                <a:latin typeface="Candara"/>
              </a:rPr>
              <a:t>Източник:ЕК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0" name="TextBox 8"/>
          <p:cNvSpPr/>
          <p:nvPr/>
        </p:nvSpPr>
        <p:spPr>
          <a:xfrm>
            <a:off x="6875640" y="1773360"/>
            <a:ext cx="201744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Candara"/>
              </a:rPr>
              <a:t>2050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Енергетиката намалява емисиите на </a:t>
            </a:r>
            <a:r>
              <a:rPr b="0" lang="en-US" sz="1600" spc="-1" strike="noStrike">
                <a:solidFill>
                  <a:srgbClr val="376092"/>
                </a:solidFill>
                <a:latin typeface="Candara"/>
              </a:rPr>
              <a:t>CO2 </a:t>
            </a: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близо  3 път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Делът на емисиите от транспорта - 2,5 пъти по-висок от дела на емисиите в Енергетиката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76092"/>
                </a:solidFill>
                <a:latin typeface="Candara"/>
              </a:rPr>
              <a:t>Емисиите от индустрията без драматични промен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14"/>
          <p:cNvSpPr/>
          <p:nvPr/>
        </p:nvSpPr>
        <p:spPr>
          <a:xfrm>
            <a:off x="1547640" y="412920"/>
            <a:ext cx="7131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66"/>
                </a:solidFill>
                <a:latin typeface="Candara"/>
                <a:ea typeface="Arial"/>
              </a:rPr>
              <a:t>Цени на електроенергия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4321440" cy="4105440"/>
          </a:xfrm>
          <a:prstGeom prst="rect">
            <a:avLst/>
          </a:prstGeom>
          <a:ln w="0">
            <a:noFill/>
          </a:ln>
        </p:spPr>
      </p:pic>
      <p:sp>
        <p:nvSpPr>
          <p:cNvPr id="983" name="TextBox 1"/>
          <p:cNvSpPr/>
          <p:nvPr/>
        </p:nvSpPr>
        <p:spPr>
          <a:xfrm>
            <a:off x="4643280" y="1517760"/>
            <a:ext cx="4321440" cy="52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376092"/>
                </a:solidFill>
                <a:latin typeface="Candara"/>
              </a:rPr>
              <a:t>Прогнози за развитието на цените на електроенергията евро/МВтч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4" name="TextBox 2"/>
          <p:cNvSpPr/>
          <p:nvPr/>
        </p:nvSpPr>
        <p:spPr>
          <a:xfrm>
            <a:off x="2987640" y="56055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376092"/>
                </a:solidFill>
                <a:latin typeface="Candara"/>
              </a:rPr>
              <a:t>Източник: Евростат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5" name="TextBox 8"/>
          <p:cNvSpPr/>
          <p:nvPr/>
        </p:nvSpPr>
        <p:spPr>
          <a:xfrm>
            <a:off x="6899400" y="55389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376092"/>
                </a:solidFill>
                <a:latin typeface="Candara"/>
              </a:rPr>
              <a:t>Източник: ЕК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86" name="Chart 10" descr=""/>
          <p:cNvPicPr/>
          <p:nvPr/>
        </p:nvPicPr>
        <p:blipFill>
          <a:blip r:embed="rId2"/>
          <a:stretch/>
        </p:blipFill>
        <p:spPr>
          <a:xfrm>
            <a:off x="42840" y="1433520"/>
            <a:ext cx="45291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3366"/>
                </a:solidFill>
                <a:latin typeface="Verdana"/>
              </a:rPr>
              <a:t>Благодаря за вниманието!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8" name="Subtitle 2"/>
          <p:cNvSpPr/>
          <p:nvPr/>
        </p:nvSpPr>
        <p:spPr>
          <a:xfrm>
            <a:off x="755640" y="5180040"/>
            <a:ext cx="6400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9" name="TextBox 7"/>
          <p:cNvSpPr/>
          <p:nvPr/>
        </p:nvSpPr>
        <p:spPr>
          <a:xfrm>
            <a:off x="1692360" y="45720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Arial"/>
              </a:rPr>
              <a:t>www.emi-bg.c</a:t>
            </a:r>
            <a:r>
              <a:rPr b="1" lang="bg-BG" sz="2800" spc="-1" strike="noStrike">
                <a:solidFill>
                  <a:srgbClr val="003366"/>
                </a:solidFill>
                <a:latin typeface="Verdana"/>
                <a:ea typeface="Arial"/>
              </a:rPr>
              <a:t>о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0:59:44Z</dcterms:created>
  <dc:creator>Жана Йорданова Георгиева</dc:creator>
  <dc:description/>
  <dc:language>en-US</dc:language>
  <cp:lastModifiedBy> </cp:lastModifiedBy>
  <cp:lastPrinted>2014-01-13T16:57:36Z</cp:lastPrinted>
  <dcterms:modified xsi:type="dcterms:W3CDTF">2014-01-14T07:12:09Z</dcterms:modified>
  <cp:revision>489</cp:revision>
  <dc:subject/>
  <dc:title>PowerPoint Presentation</dc:title>
</cp:coreProperties>
</file>