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61E-9543-4F1E-9C29-D8EC457C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F23-04F1-4DC3-9C47-6D7624EF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4D3-63C3-43C3-AF0B-A654467A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55C-79C7-47A9-BE49-BFCB14FA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4949-65C4-48A5-97D4-7242D288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9E72-EE86-43E4-A3BB-D6430A32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A021-A03F-4287-B8A0-26605A0C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411E-A20D-4D47-857C-7EC7FF7C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EF31-A737-4C80-A9FC-F6D8A3A4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2A6A-A24B-4B94-AF80-DBE0F82C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1CF4-7A62-4A36-977C-CB2900E9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DF4-7D73-4F9C-A593-41EBDA5F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571C-0C8E-4693-8583-5ED59948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2FB3-A651-482D-BE8C-5EDE108E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6A2B-2F1B-404F-B9D3-4185449C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BDB0-A607-40BC-936F-FDA8D09C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07BB-22C0-4FE3-A68B-C80391DF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1E8DE-12BF-4639-AB82-77FC635A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62A06-06F7-4C93-9929-88D455E5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22483-FBF2-4A23-BE96-6C49AB6F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F3FF7-4E53-4452-A23F-6E3BB6F9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5DAA7-EF56-4B5D-BD44-9E8B01E9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0D2-0E36-4C32-B5C6-38BB707A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C4316-44C3-452F-8B95-170B7631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622AD-2AC4-49D5-8788-DEC468BD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0962B-21DD-4DFD-9074-334E4D9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C3453-0126-460D-8663-3E12BD4C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0543D-5887-46DC-B20C-0727C83A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0DA53-7F99-4684-A342-C07FF51C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EBF01-A673-40D2-9753-80B2C594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AF87-28CD-4F5B-997D-B683F7D6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9315-DD98-4545-AC91-B6D1C5C1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6DFE-5AEB-4A0E-8D13-BCAED073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DA6-DD5A-48F2-81A5-12661FA3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6201-4D7F-4BDD-945E-941BA595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A3F9-FC9B-42F3-881E-71AD5ACD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421E-4147-4CB0-B631-2B58080F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5580-C5AF-4F50-9803-2C47DD7A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A1AE-C756-4945-95EE-BCD85F65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2698B-1D56-4DAD-A386-DF4CDC73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96B78-A8BA-4F12-8008-CC944356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F1D7-7539-4AA1-AE16-C300FF3A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F9ACC-C6B2-4DEA-971A-18418210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2CD-4F38-4B63-9D8B-3FE6BA7D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B2D-B36C-4C42-BD63-94C91C84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A92-E04A-4909-899F-86480A6D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BC8-1B9B-498D-939C-37ACA13E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45D-01FA-412C-908C-89B5CB44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F913-69ED-4D7C-8AB1-3DBE125E29D1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3B99-F6BF-45D9-9AC6-8AAABD1A8F8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5900-DE4A-4D96-B6B0-86E083580F5C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15CF-CF13-4B09-A379-011519BFE6D5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9E7B-6BA9-49BE-A966-D27962CB7A76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E023-2FEE-4E2D-9C3A-D361F053E95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84A-FE3C-4397-A4E1-C7FBBB4FD433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8E75-FF60-4A0C-9A1D-0B77113115C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87640" y="2349000"/>
            <a:ext cx="331308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94c600"/>
                </a:solidFill>
                <a:latin typeface="Century Gothic"/>
              </a:rPr>
              <a:t>Разпределяне на безплатни квоти на инсталациите в ЕСТЕ. Подготовка на нов списък със сектори, изложени на риск от изтичане на въглерод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88000" y="4941720"/>
            <a:ext cx="33098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424242"/>
                </a:solidFill>
                <a:latin typeface="Century Gothic"/>
              </a:rPr>
              <a:t>Стефка Дойчинова</a:t>
            </a: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424242"/>
                </a:solidFill>
                <a:latin typeface="Century Gothic"/>
              </a:rPr>
              <a:t>главен експерт в дирекция</a:t>
            </a: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424242"/>
                </a:solidFill>
                <a:latin typeface="Century Gothic"/>
              </a:rPr>
              <a:t>„</a:t>
            </a:r>
            <a:r>
              <a:rPr b="0" lang="bg-BG" sz="1100" spc="-1" strike="noStrike">
                <a:solidFill>
                  <a:srgbClr val="424242"/>
                </a:solidFill>
                <a:latin typeface="Century Gothic"/>
              </a:rPr>
              <a:t>Политика по изменение на климата“</a:t>
            </a: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424242"/>
                </a:solidFill>
                <a:latin typeface="Century Gothic"/>
              </a:rPr>
              <a:t>Министерство на околната среда и водите</a:t>
            </a: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5164-3D95-4192-96C3-F70D4419CC7F}" type="slidenum"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6422760" y="177336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efefe"/>
                </a:solidFill>
                <a:latin typeface="Century Gothic"/>
              </a:rPr>
              <a:t>14 ян. 2014 г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94c600"/>
                </a:solidFill>
                <a:latin typeface="Century Gothic"/>
              </a:rPr>
              <a:t>Структу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655720"/>
            <a:ext cx="67770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e3d2d"/>
                </a:solidFill>
                <a:latin typeface="Century Gothic"/>
              </a:rPr>
              <a:t>Разпределяне на безплатни квоти за периода 2013-2020 г. – актуална информация и следващи стъп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дготовката на нов списък на отраслите, изложени на риск от изтичане на въглерод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1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efefe"/>
                </a:solidFill>
                <a:latin typeface="Century Gothic"/>
              </a:rPr>
              <a:t>14 ян. 2014 г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0E6B-6B7A-40A6-9A2D-373B4E65B52B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94c600"/>
                </a:solidFill>
                <a:latin typeface="Century Gothic"/>
              </a:rPr>
              <a:t>Разпределяне на безплатни квоти за периода 2013-2020 г.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87280" y="1628640"/>
            <a:ext cx="6777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5380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e3d2d"/>
                </a:solidFill>
                <a:latin typeface="Century Gothic"/>
              </a:rPr>
              <a:t>Докладвани и одобрени от ЕК Национални мерки за изпълнение, в които е определено предварителното количество квоти за всяка инсталация в ЕСТЕ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e3d2d"/>
                </a:solidFill>
                <a:latin typeface="Century Gothic"/>
              </a:rPr>
              <a:t>Изготвен списък с инсталациите с частични спирания на експлоатация и значително намаление на капацитета съгласно чл. 21 и чл. 23 на Решение 278/2011/ЕК: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e3d2d"/>
                </a:solidFill>
                <a:latin typeface="Century Gothic"/>
              </a:rPr>
              <a:t>32 инсталации с намалено разпределението за 2013 г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e3d2d"/>
                </a:solidFill>
                <a:latin typeface="Century Gothic"/>
              </a:rPr>
              <a:t>Приключва процедурата по съгласуване на направените промени с операторите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e3d2d"/>
                </a:solidFill>
                <a:latin typeface="Century Gothic"/>
              </a:rPr>
              <a:t>Двуседмична проверка на ЕК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4a6300"/>
                </a:solidFill>
                <a:latin typeface="Century Gothic"/>
              </a:rPr>
              <a:t>Следващи стъпки: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a6300"/>
                </a:solidFill>
                <a:latin typeface="Century Gothic"/>
              </a:rPr>
              <a:t>Докладване на ЕК на инсталации със значително увеличение на капацитета и нови инсталации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a6300"/>
                </a:solidFill>
                <a:latin typeface="Century Gothic"/>
              </a:rPr>
              <a:t>Докладване на данни за промени в експлоатацията през 2013 г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a6300"/>
                </a:solidFill>
                <a:latin typeface="Century Gothic"/>
              </a:rPr>
              <a:t>Определяне на окончателно разпределение за  2014 г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451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400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lvl="1" marL="594720" indent="-253440">
              <a:spcBef>
                <a:spcPts val="40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E574-5CF8-4392-87C5-3CE3EE1192B3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efefe"/>
                </a:solidFill>
                <a:latin typeface="Century Gothic"/>
              </a:rPr>
              <a:t>14 ян. 2014 г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94c600"/>
                </a:solidFill>
                <a:latin typeface="Century Gothic"/>
              </a:rPr>
              <a:t>Нов списък на отраслите с риск от изтичане на въглерод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191592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Първият списък на отрасли с риск от изтичане на въглерод, е одобрен през 2009 г. (Решение на ЕК 2010/2/EС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e3d2d"/>
                </a:solidFill>
                <a:latin typeface="Century Gothic"/>
              </a:rPr>
              <a:t>Задължение на ЕК да подготвя нов списък на всеки 5 години - чл. 10а (13) на Директива 2003/87/ЕО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e3d2d"/>
                </a:solidFill>
                <a:latin typeface="Century Gothic"/>
              </a:rPr>
              <a:t>ЕК подготвя нов списък за периода 2015-2019 г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e3d2d"/>
                </a:solidFill>
                <a:latin typeface="Century Gothic"/>
              </a:rPr>
              <a:t>Условията за включване на даден отрасъл в списъка са определени в чл.15 и чл. 16 на Директива 2003/87/ЕО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a6300"/>
                </a:solidFill>
                <a:latin typeface="Century Gothic"/>
              </a:rPr>
              <a:t>Предстои ЕК да представи проекта на списъка на Комитета по изменение на климата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4a6300"/>
                </a:solidFill>
                <a:latin typeface="Century Gothic"/>
              </a:rPr>
              <a:t>МОСВ ще изпрати проекта на списъка до инсталациите/браншовите организации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8140-25AA-4580-B022-06DF90C31EA6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efefe"/>
                </a:solidFill>
                <a:latin typeface="Century Gothic"/>
              </a:rPr>
              <a:t>14 ян. 2014 г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2356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94c600"/>
                </a:solidFill>
                <a:latin typeface="Century Gothic"/>
              </a:rPr>
              <a:t>Благодаря за вниманието!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787640" y="5419800"/>
            <a:ext cx="388764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e3d2d"/>
                </a:solidFill>
                <a:latin typeface="Century Gothic"/>
              </a:rPr>
              <a:t>Стефка Дойчинова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e3d2d"/>
                </a:solidFill>
                <a:latin typeface="Century Gothic"/>
              </a:rPr>
              <a:t>главен експерт в дирекция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e3d2d"/>
                </a:solidFill>
                <a:latin typeface="Century Gothic"/>
              </a:rPr>
              <a:t>„</a:t>
            </a:r>
            <a:r>
              <a:rPr b="0" lang="bg-BG" sz="1200" spc="-1" strike="noStrike">
                <a:solidFill>
                  <a:srgbClr val="3e3d2d"/>
                </a:solidFill>
                <a:latin typeface="Century Gothic"/>
              </a:rPr>
              <a:t>Политика по изменение на климата“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e3d2d"/>
                </a:solidFill>
                <a:latin typeface="Century Gothic"/>
              </a:rPr>
              <a:t>Министерство на околната среда и водите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DAC5-782A-42C1-A7FE-2043D7E43345}" type="slidenum">
              <a:rPr b="0" lang="en-US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efefe"/>
                </a:solidFill>
                <a:latin typeface="Century Gothic"/>
              </a:rPr>
              <a:t>14 ян. 2014 г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10:56:09Z</dcterms:created>
  <dc:creator>Vladislav Dramaliev</dc:creator>
  <dc:description/>
  <dc:language>en-US</dc:language>
  <cp:lastModifiedBy>Stefka Doychinova</cp:lastModifiedBy>
  <cp:lastPrinted>2014-01-14T07:39:07Z</cp:lastPrinted>
  <dcterms:modified xsi:type="dcterms:W3CDTF">2014-01-14T07:41:03Z</dcterms:modified>
  <cp:revision>80</cp:revision>
  <dc:subject/>
  <dc:title>„Политики за смекча</dc:title>
</cp:coreProperties>
</file>